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15D-F1E8-439F-A5F4-BDB67F9A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5799-252E-45DB-84D6-6E2319F3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557C-9185-4C2C-A03F-0DD9D5EE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F18E-EF45-4797-8101-00A0EBD7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F75B-2358-48B5-B265-33FD2B5D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2161-C6AD-4E71-A323-6AD46EDA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505F-254B-4F70-A688-2F9C6CF9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E8C7-C51D-4B3D-82BA-FB5407F2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5419-D9C2-42E9-89EB-BBEDFB54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55AA-DDD2-4BED-BBEB-525A2384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033B-EA96-48A2-97A8-CBF97AEB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71F-B162-4B01-BC5A-B4853695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F3AA-6ACB-47D6-B6C3-2CDEE762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91CF-5FAC-4FEF-B9EB-87BD3FE9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89D6-2CB8-4CAE-A1FD-8ACCCCD5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1A53-7EAB-47EB-9EEE-F6585BD6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D364-55BC-40E2-A232-65F3395E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0CB87-A83B-4837-B770-5766E52B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15B09-9B5F-4156-B0C1-E44DAEB2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AAA54-878C-4EBC-A6FD-61573373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2B1B8-5DB9-49D2-9995-B92442BA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9EEAA-1E34-4BC0-9DCE-D4B93B96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D582-7684-440A-BC44-1755B468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07DDF-6DA0-414C-B654-0443CABD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DAE23-81B1-4570-BEB1-0C439A0C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F6617-480F-44E9-8C07-AC9DDC1A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8BEAF-6F7F-4A7C-B31C-02F5AF01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26A88-C53B-406D-9577-CE009D77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A658C-12D1-4B73-B9D7-3117A84F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51762-829C-47ED-A819-AEF66E4A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5989C-0AAE-450B-B1E3-F01DC9DB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09F4C-2DB2-471C-B947-3F9B57EE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168AF-B3B5-4B14-BE72-DD17CFEC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8FEE-DE2D-42A5-B283-2993D4F7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9E212-85F1-4907-A212-3B3C9390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598CE-39F2-4BD8-9FFD-B8BF01BB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E6B68-1EE7-46AB-A885-5AE2C4D1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D2799-DB1D-42B7-BDD1-C1C1F6E7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14206-E059-4CCD-A4BB-4492F2D4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6030F-B64F-46EF-83C5-FAAF27C8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8786D-814F-4D52-AE02-1F873964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8209E-5D8D-47E7-8A6C-A1D1717D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34E40-18D6-4408-BF9C-A11F1F85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5A1-86AB-4C81-B124-1220B59E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8A6-2BD1-4CF8-AAE2-2D32934D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B5AB-01B2-4EFC-B14B-C84AD65C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8DD-FAAF-4448-9C25-8BDF268D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E57E-B4DD-462D-BC8F-45F774CD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E2BA-00D7-49FF-905B-4FCCD6B4F34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0926-0045-4F64-AFC4-68BEFFB687A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DBE2-2DBA-4DA8-9DC0-548A88782E7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7DB2-88F8-4B3E-BAED-27B0B7FA674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 физика объясняет факты из повседневной жизн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 на вопро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учше всего бегать на дорожках на стадионе потому что бег по таким дорожкам наилучшим способом адаптирует и тренирует бегуна к профессиональному бег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г же по другим видам дорожек лишь способствует поддержке физической формы и здоровья в целом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4617b"/>
                </a:solidFill>
                <a:latin typeface="Calibri"/>
              </a:rPr>
              <a:t>Сформулируем свои гипотезы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чему бегун обычно худо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ши гипотез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отому что бег сильно изматывает организм               бег сильно сжигает калори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C:\Documents and Settings\Admin\Мои документы\Мои рисунки\tired-runner-400x342.jpg"/>
          <p:cNvPicPr/>
          <p:nvPr/>
        </p:nvPicPr>
        <p:blipFill>
          <a:blip r:embed="rId1"/>
          <a:stretch/>
        </p:blipFill>
        <p:spPr>
          <a:xfrm>
            <a:off x="1857240" y="4643280"/>
            <a:ext cx="1357560" cy="1160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Documents and Settings\Admin\Мои документы\Мои рисунки\LinfordChristie2.jpg"/>
          <p:cNvPicPr/>
          <p:nvPr/>
        </p:nvPicPr>
        <p:blipFill>
          <a:blip r:embed="rId2"/>
          <a:stretch/>
        </p:blipFill>
        <p:spPr>
          <a:xfrm>
            <a:off x="5857920" y="4643280"/>
            <a:ext cx="1035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 на вопро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чему бегун обычно худо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вет правильный во всех 2-х гипотезах, описанных выш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28760" y="57168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опросы, на которые мы будем искать ответы самостоятельн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может помешать бегуну в бег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ждый ли бегун становится призёром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помощью чего люди могут бежат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заставляет профессионального спортсмена стремится к лидерству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то нужно чтобы прибежать первым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ак далёк путь к пьедесталу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 уроках физики мы учим теории и законы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иногда кажется, что эти знания не имеют никакого отношения к нашей жизни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авайте попробуем объяснить некоторые общеизвестные факты знаниями из физи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 для примера возьмем людей, которые увлекаются спортом. А именно бег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28760" y="121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просы на которые будем искать ответ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чем бегает бегун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чему бегает бегун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гун бежит ускоренно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чему бегун обычно худо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Сформулируем свои гипотезы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000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чем бегает бегун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ши гипотез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осовки                Кеды                    бутс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C:\Documents and Settings\Admin\Мои документы\Мои рисунки\AirmaxBWJPG.jpg"/>
          <p:cNvPicPr/>
          <p:nvPr/>
        </p:nvPicPr>
        <p:blipFill>
          <a:blip r:embed="rId1"/>
          <a:stretch/>
        </p:blipFill>
        <p:spPr>
          <a:xfrm>
            <a:off x="428760" y="400068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Documents and Settings\Admin\Мои документы\Мои рисунки\205_1.jpg"/>
          <p:cNvPicPr/>
          <p:nvPr/>
        </p:nvPicPr>
        <p:blipFill>
          <a:blip r:embed="rId2"/>
          <a:stretch/>
        </p:blipFill>
        <p:spPr>
          <a:xfrm>
            <a:off x="3286080" y="4143240"/>
            <a:ext cx="1428840" cy="1376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C:\Documents and Settings\Admin\Мои документы\Мои рисунки\42268862_1.jpg"/>
          <p:cNvPicPr/>
          <p:nvPr/>
        </p:nvPicPr>
        <p:blipFill>
          <a:blip r:embed="rId3"/>
          <a:stretch/>
        </p:blipFill>
        <p:spPr>
          <a:xfrm>
            <a:off x="5429160" y="4357800"/>
            <a:ext cx="248616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 на вопро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чем бегает бегун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твет правильный во всех 3-х гипотезах, описанных выш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4617b"/>
                </a:solidFill>
                <a:latin typeface="Calibri"/>
              </a:rPr>
              <a:t>Сформулируем свои гипотезы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гун бежит ускоренно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ши гипотез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а бегун бежит с ускорение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т, бегун бежит равномер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т, бегун бежит равнозамедлен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опытаемся определить, какой раздел физики мог бы помочь нам ответить на вопрос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гун бежит ускоренно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прос – про движение тела с ускорение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дел физики, изучающий данное движение называется </a:t>
            </a:r>
            <a:r>
              <a:rPr b="0" lang="ru-RU" sz="2400" spc="-1" strike="noStrike">
                <a:solidFill>
                  <a:srgbClr val="009dd9"/>
                </a:solidFill>
                <a:latin typeface="Constantia"/>
              </a:rPr>
              <a:t>Кинематик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" descr="C:\Documents and Settings\Admin\Мои документы\Мои рисунки\moveint.jpg"/>
          <p:cNvPicPr/>
          <p:nvPr/>
        </p:nvPicPr>
        <p:blipFill>
          <a:blip r:embed="rId1"/>
          <a:stretch/>
        </p:blipFill>
        <p:spPr>
          <a:xfrm>
            <a:off x="4929120" y="3714840"/>
            <a:ext cx="250056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4617b"/>
                </a:solidFill>
                <a:latin typeface="Calibri"/>
              </a:rPr>
              <a:t>Сформулируем свои гипотезы</a:t>
            </a:r>
            <a:br>
              <a:rPr sz="4500"/>
            </a:b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чему бегает бегун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ши гипотез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Беговая дорожка на стадионе          беговая дорожка в парке             беговая  дорожка дома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C:\Documents and Settings\Admin\Мои документы\Мои рисунки\i.jpeg"/>
          <p:cNvPicPr/>
          <p:nvPr/>
        </p:nvPicPr>
        <p:blipFill>
          <a:blip r:embed="rId1"/>
          <a:stretch/>
        </p:blipFill>
        <p:spPr>
          <a:xfrm>
            <a:off x="1214280" y="4643280"/>
            <a:ext cx="1622520" cy="1214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Documents and Settings\Admin\Мои документы\Мои рисунки\airportrdwk.jpg"/>
          <p:cNvPicPr/>
          <p:nvPr/>
        </p:nvPicPr>
        <p:blipFill>
          <a:blip r:embed="rId2"/>
          <a:stretch/>
        </p:blipFill>
        <p:spPr>
          <a:xfrm>
            <a:off x="3786120" y="4643280"/>
            <a:ext cx="1619280" cy="1214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C:\Documents and Settings\Admin\Мои документы\Мои рисунки\i.jpeg"/>
          <p:cNvPicPr/>
          <p:nvPr/>
        </p:nvPicPr>
        <p:blipFill>
          <a:blip r:embed="rId3"/>
          <a:stretch/>
        </p:blipFill>
        <p:spPr>
          <a:xfrm>
            <a:off x="6357960" y="4572000"/>
            <a:ext cx="12142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0:55:50Z</dcterms:created>
  <dc:creator>26087</dc:creator>
  <dc:description/>
  <dc:language>en-US</dc:language>
  <cp:lastModifiedBy>Hunter0k</cp:lastModifiedBy>
  <dcterms:modified xsi:type="dcterms:W3CDTF">2010-06-07T16:49:53Z</dcterms:modified>
  <cp:revision>56</cp:revision>
  <dc:subject/>
  <dc:title>Физика в спорте</dc:title>
</cp:coreProperties>
</file>